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C88-D301-4394-958B-76B11B34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C3E-FB52-45F2-BC60-3DECE02D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5F7-120D-423C-9F92-8059F688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964-9590-4A50-8542-52F40643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B780-4C26-4FCE-BD51-905C642B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D649-E243-4281-B595-E95EE1BE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1706-4F9B-4EBF-B050-351407BD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F71F-3410-4F63-9C98-35911D44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4068-EE87-4679-BA6C-B5DDE90A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DADE-831E-45B9-8E3D-1E157158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76D9-C9E7-436C-A83E-D36EE52E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50F-C553-4903-9828-EECFED96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D284-8158-4C4F-B1AE-FB8FE436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7640-939C-4ED1-988A-26BBB99C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27DA-FCDD-44C2-887F-3235CA8A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97DD-E845-4560-AA85-67AC9562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FFBE-2708-4314-A4AD-4B9C4233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911-5759-4D3F-A7B0-C843CDA6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557-EF6B-4905-A493-A7A92682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ED3-D502-4A71-B9C3-F96B61D3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CDA-BA95-4389-9FA3-D7C54BDF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447-62D3-4FB2-9F0B-D1D3F4C5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19E-78BE-45CD-9154-AB2E4068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C6A-CE3C-4EB1-92AF-2F9D6A08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B0DD-2C08-4FA6-9F74-59635F8E87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1CFF-6C47-4702-8AF6-A4F2191AE4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thods of Teaching:  Direct Teaching    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it? P. 7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 we do it?  What do we u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01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thods of Teaching: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oblem Based Learning  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it?  P. 8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 we do it?  What do we u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thods of Teaching:  Inductive Thinking 3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it? P. 9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 we do it?  What do we u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thods of Teaching: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operative Learning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it? P. 9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 we do it?  What do we u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thods of Teaching:  Role Playing  5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it? P. 10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 we do it?  What do we u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thods of Teaching:  Simulation    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it? P. 10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 we do it?  What do we us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9:38:42Z</dcterms:created>
  <dc:creator>Spalding</dc:creator>
  <dc:description/>
  <dc:language>en-US</dc:language>
  <cp:lastModifiedBy>Spalding</cp:lastModifiedBy>
  <dcterms:modified xsi:type="dcterms:W3CDTF">2009-01-26T19:46:10Z</dcterms:modified>
  <cp:revision>2</cp:revision>
  <dc:subject/>
  <dc:title>Methods of Teaching:  Direct Teaching     1</dc:title>
</cp:coreProperties>
</file>